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AE2E-62FC-4451-948F-7DD2E3367E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D45B-7312-4704-B3AC-43B671D2B3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6962-05A2-4F57-B22C-B5752956DA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0016-7DE9-48DF-A696-B51C4364C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A75A-868C-4B51-AAD5-E5E31A332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1F8F-C7EB-4941-8FB5-D6CC161F13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2E9F-C78B-4A35-A60B-1FC048478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BACE-61C8-4C7A-8C87-8A8263AF83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DDAB-B22A-47FE-A302-9CA562692E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DAC6-C281-4594-942E-D0803775F7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96E7-C034-4FB1-954C-3366B7D1B6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E17C-09C3-4175-9DD0-72A21E3933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F18D-36AA-42F2-93AD-F0AE4160EF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BB3B-C076-4E83-8219-5D742514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4F7-83B3-4F18-A044-28E6B979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86B-0B72-4D0C-B6EB-DE0C769B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880-9BD7-4763-9D39-9A6FDD37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7AD0-CDC0-44EB-B85A-2A098DBF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FF3F-5A34-4043-A505-02CE74C9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AF32-1578-4826-9117-042549FB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968B-F89C-47C1-A45C-021F580E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E226-56C7-40A0-8DFA-08731681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AE3C-2DBB-437B-A77B-F949155D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D389-DB0D-4B89-8D9A-1501C669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8D4-A564-4697-BC67-A11B7B1B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0F5B-48A5-4EA4-A29A-24163D6C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3C75-24DE-4A98-BAFE-A687BEE4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C3B0-07E6-4728-B182-2B01D7C8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35A9-E091-4D33-A9F4-0BFDF4BB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5FF4-7E06-4F3D-84F0-99BCF78C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75CE7-8167-4ABB-88F2-E323E601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4F3C4-7A9A-4016-8705-4F97A156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CA6C-3987-44D6-BAE9-E081A5A7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715DC-C41C-4572-BA7D-EB655968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0FE6B-4C45-4510-A396-AE9ED95B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8BF-BCD6-4573-95AB-784590ED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56674-4D0B-4221-A0AE-85BD1DE7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C779D-A45C-4B6D-B5B7-E6FB79BE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0BA83-C1CA-4223-A300-9150B885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FF00D-87AC-4150-A0C5-63EF1405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E2D59-CCE0-4399-B16E-94FC2414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4592A-2C27-4C3A-80AE-300EE400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83C15-E15F-4FD6-A946-AE9377DA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740CF-B949-405B-AFF2-8D840805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EA217-8880-4E23-9B0E-F083981A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B9B49-396A-427C-8270-B1BDA9EE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6DF-5476-48C6-93E7-786AA61C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EF00A-5F91-4604-B11F-D2E81EF9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59A6C-499A-416B-A840-E6F420F6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FE877-680A-4942-B07E-35724F47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96693-8EA9-4C30-9500-2541C182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D507C-15EF-4CF2-832A-F05970AB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426FE-ACEC-40AB-812E-F085E361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E1341-60D6-4358-A3C8-640CDD4B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7D9E4-6B3A-42C5-B7E2-2A1BAF5D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72C4F-A4EA-49F8-88DD-8CBD9525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47295-597F-4DA7-90E7-3E3DFF3C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25E-8352-44E9-B028-1B244DE9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E7231-A2FC-40EA-A425-1345D335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78262-9FF5-4C76-A007-30F1B588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DB643-1FDA-47D2-9B5C-1A98E59B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DFCF1-6E48-4509-BDD7-6348D5B1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F07C7-04E6-421E-85CA-49F2C832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6C871-9882-4AC1-86F2-D5593296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EB55B-12AB-49CA-801A-83FB59A2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376E6-E2D1-4DF1-8256-39E2F22D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0B6AA-E18A-4524-9B38-8E98A684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37C12-F9D1-43C9-AE1B-4CE50188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47A-C579-4226-BBB1-EC82A1CE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12CFF-90CA-4659-9E5F-6B5CE916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055C4-50D0-442B-942A-37B1C152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9ABC3-C8B5-46BB-B485-2BE91782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20E22-0100-4F9B-9A15-40668E99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F6060-E723-41CA-BD32-454E5E8D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54A01-D37D-45A2-8866-D7CFCD6F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A64C8-B17E-429E-A767-355550E7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D1A1F-AD28-4A54-897B-092CBA26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16F11-F419-4B4C-9D7F-7B1C15F3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4B959-89CA-417E-885A-CCF78945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BD4-7876-4B21-B9CD-44D4BB98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F2EBE-522D-4D91-B1C9-EDCF5B8D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A466A-1891-4265-9BB8-586740B3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6FD85-751D-4D30-B918-21EE1B00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F816-A4ED-4A01-959B-05A3EB08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425-13C1-466B-AC94-CAC4694B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8404-C21F-414E-9FF6-59A4F76AF777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EB90-0D69-428C-84A0-1DB6CE0B63D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67E8-9963-40CD-AABE-82CD40DF68F5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6168-42D7-4A89-BDD0-A47AAC02CBE6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5235-2C59-4D04-848C-34EFA9056A32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9AC2-BD47-4EEE-B685-B41D5500829B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D51B-122F-4C2C-8555-C0141C3ACB6E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960D-4C3E-470D-9842-0CEE9F25779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975C-0B0D-4DC5-8949-AF4C50BB97C6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7139-3B35-422A-9648-92EA96D5907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3210-101F-472C-BCFF-EF76B89AF36F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3DC4-FA05-4090-AAE0-EF8AAFF4181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Группа 11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27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0764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3" descr=""/>
            <p:cNvPicPr/>
            <p:nvPr/>
          </p:nvPicPr>
          <p:blipFill>
            <a:blip r:embed="rId2"/>
            <a:stretch/>
          </p:blipFill>
          <p:spPr>
            <a:xfrm>
              <a:off x="1907640" y="0"/>
              <a:ext cx="723636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" descr=""/>
            <p:cNvPicPr/>
            <p:nvPr/>
          </p:nvPicPr>
          <p:blipFill>
            <a:blip r:embed="rId3"/>
            <a:stretch/>
          </p:blipFill>
          <p:spPr>
            <a:xfrm>
              <a:off x="3780000" y="41040"/>
              <a:ext cx="1428480" cy="137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9" name="Прямоугольник 10" descr=""/>
          <p:cNvPicPr/>
          <p:nvPr/>
        </p:nvPicPr>
        <p:blipFill>
          <a:blip r:embed="rId4"/>
          <a:stretch/>
        </p:blipFill>
        <p:spPr>
          <a:xfrm>
            <a:off x="682560" y="2054160"/>
            <a:ext cx="7871040" cy="238932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2"/>
          <p:cNvSpPr/>
          <p:nvPr/>
        </p:nvSpPr>
        <p:spPr>
          <a:xfrm>
            <a:off x="4959360" y="5589720"/>
            <a:ext cx="406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Ковалев М.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менеджмент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ация: управление инвестициями и экономика строи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5"/>
          <p:cNvSpPr/>
          <p:nvPr/>
        </p:nvSpPr>
        <p:spPr>
          <a:xfrm>
            <a:off x="152280" y="5589720"/>
            <a:ext cx="454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дипломного проектирования: Бобылев В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э.н., доц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78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0" name="TextBox 11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81" name="TextBox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оказатели эффектив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3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2D3C-6777-4DCB-BBD4-B65999E239B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Прямоугольник 5" descr=""/>
          <p:cNvPicPr/>
          <p:nvPr/>
        </p:nvPicPr>
        <p:blipFill>
          <a:blip r:embed="rId5"/>
          <a:stretch/>
        </p:blipFill>
        <p:spPr>
          <a:xfrm>
            <a:off x="1152360" y="2730600"/>
            <a:ext cx="7345440" cy="101916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7" descr=""/>
          <p:cNvPicPr/>
          <p:nvPr/>
        </p:nvPicPr>
        <p:blipFill>
          <a:blip r:embed="rId6"/>
          <a:stretch/>
        </p:blipFill>
        <p:spPr>
          <a:xfrm>
            <a:off x="950760" y="1542960"/>
            <a:ext cx="7851960" cy="79236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15" descr=""/>
          <p:cNvPicPr/>
          <p:nvPr/>
        </p:nvPicPr>
        <p:blipFill>
          <a:blip r:embed="rId7"/>
          <a:stretch/>
        </p:blipFill>
        <p:spPr>
          <a:xfrm>
            <a:off x="957240" y="2097000"/>
            <a:ext cx="7845480" cy="79236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16" descr=""/>
          <p:cNvPicPr/>
          <p:nvPr/>
        </p:nvPicPr>
        <p:blipFill>
          <a:blip r:embed="rId8"/>
          <a:stretch/>
        </p:blipFill>
        <p:spPr>
          <a:xfrm>
            <a:off x="3054240" y="3597120"/>
            <a:ext cx="3017880" cy="101772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оугольник 17" descr=""/>
          <p:cNvPicPr/>
          <p:nvPr/>
        </p:nvPicPr>
        <p:blipFill>
          <a:blip r:embed="rId9"/>
          <a:stretch/>
        </p:blipFill>
        <p:spPr>
          <a:xfrm>
            <a:off x="3352680" y="4395960"/>
            <a:ext cx="2835360" cy="101736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18" descr=""/>
          <p:cNvPicPr/>
          <p:nvPr/>
        </p:nvPicPr>
        <p:blipFill>
          <a:blip r:embed="rId10"/>
          <a:stretch/>
        </p:blipFill>
        <p:spPr>
          <a:xfrm>
            <a:off x="2938320" y="5078520"/>
            <a:ext cx="321336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92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TextBox 11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95" name="TextBox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Риски проек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7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D6C7-1735-4CA4-B2E2-326AE297409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08000" y="1628640"/>
          <a:ext cx="8928000" cy="5113440"/>
        </p:xfrm>
        <a:graphic>
          <a:graphicData uri="http://schemas.openxmlformats.org/drawingml/2006/table">
            <a:tbl>
              <a:tblPr/>
              <a:tblGrid>
                <a:gridCol w="1944720"/>
                <a:gridCol w="574560"/>
                <a:gridCol w="6408720"/>
              </a:tblGrid>
              <a:tr h="36540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а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наче-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ммента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мер компан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 –3%. Рассматриваемое предприятие довольно крупное, объемы производства в масштабах стра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5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инансовая струк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 – 5 %. Данный показатель зависит от коэффициента концентрации собственного капитала и от показателя текущей ликвид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изводственная и территориальная диверсифика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–3%. Производственная диверсификация практически отсутствует (единственное направление деятельности – авиационный ремонт, образовательная деятельность влияет незначительно). Территориальная диверсификация средняя (предприятие ремонтирует авиационную технику для России и ближнего зарубежья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версификация клиен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–4%. Чем меньше зависимость доходов компании от одного или нескольких крупнейших клиентов, тем при прочих равных условиях она стабильнее. Потребителями авиационного ремонта  являются практически все авиакомпании аэропорта Внуково и некоторые – других аэропортов, т. е. клиенты немногочисленны и весом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7304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ентабельность предприятия и прогнозируемость его до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–4%. Рентабельность и стабильность доходов в данном бизнесе высокие, но зависят от политики госуда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чество управл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чество управления отражается на всех сферах существования компании, т. е. текущее состояние компании и перспективы ее развития во многом предопределены качеством управления. Данный фактор риска определяем как среднюю величину факторов, кроме факторов, зависящих от величины компании и прогнозируемости доход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чие собственные рис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1224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1224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 – 5 %.  Учитывает вероятность влияния на получение прогнозируемых доходов других специфических рисков, присущих оцениваемой компании. Принимая во внимание специфику ведения бизнеса в России, необходимо предусмотреть в ставке дисконта величину данного фактора на уровне середины диапазон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1224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828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1224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1224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1224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40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0764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3" descr=""/>
            <p:cNvPicPr/>
            <p:nvPr/>
          </p:nvPicPr>
          <p:blipFill>
            <a:blip r:embed="rId2"/>
            <a:stretch/>
          </p:blipFill>
          <p:spPr>
            <a:xfrm>
              <a:off x="1907640" y="0"/>
              <a:ext cx="723636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4" descr=""/>
            <p:cNvPicPr/>
            <p:nvPr/>
          </p:nvPicPr>
          <p:blipFill>
            <a:blip r:embed="rId3"/>
            <a:stretch/>
          </p:blipFill>
          <p:spPr>
            <a:xfrm>
              <a:off x="3780000" y="41040"/>
              <a:ext cx="142848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16C5-D00B-4BDE-93CF-B2858749336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Прямоугольник 2" descr=""/>
          <p:cNvPicPr/>
          <p:nvPr/>
        </p:nvPicPr>
        <p:blipFill>
          <a:blip r:embed="rId4"/>
          <a:stretch/>
        </p:blipFill>
        <p:spPr>
          <a:xfrm>
            <a:off x="1695600" y="2395440"/>
            <a:ext cx="559584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Группа 11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284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TextBox 7"/>
            <p:cNvGrpSpPr/>
            <p:nvPr/>
          </p:nvGrpSpPr>
          <p:grpSpPr>
            <a:xfrm>
              <a:off x="5338440" y="420480"/>
              <a:ext cx="3805560" cy="871920"/>
              <a:chOff x="5338440" y="420480"/>
              <a:chExt cx="3805560" cy="871920"/>
            </a:xfrm>
          </p:grpSpPr>
          <p:pic>
            <p:nvPicPr>
              <p:cNvPr id="287" name="TextBox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8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5438520" y="476280"/>
                <a:ext cx="365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Характеристики дипломного проек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9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Прямоугольник 2"/>
          <p:cNvSpPr/>
          <p:nvPr/>
        </p:nvSpPr>
        <p:spPr>
          <a:xfrm>
            <a:off x="250920" y="1916280"/>
            <a:ext cx="866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проработан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ышение квалификации сотрудников силами предприятия – относительно новое направление деятельности хозяйствующих субъектов. В последние годы появилось много работ по этой теме, но единого подхода пока не проработано. Требуется дополнительный анализ и систематизация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336600" y="3359160"/>
            <a:ext cx="85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О «Внуковский авиаремонтный завод №400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6"/>
          <p:cNvSpPr/>
          <p:nvPr/>
        </p:nvSpPr>
        <p:spPr>
          <a:xfrm>
            <a:off x="307800" y="3933720"/>
            <a:ext cx="85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эффективности деятельности предприятия за счет реконструкции нерентабельных и бесперспективных произво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8"/>
          <p:cNvSpPr/>
          <p:nvPr/>
        </p:nvSpPr>
        <p:spPr>
          <a:xfrm>
            <a:off x="336600" y="494172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ипломного проектиров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рациональной системы управления инвестиционным проектом с учетом перспектив развития управляемых объе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и расчет инвестиционной эффективности от предлагаемых мероприят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Номер слайда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9548-81D4-433F-ABA3-7D32F5700A1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29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8" name="TextBox 10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299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оказатели эффектив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1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2C0C-8B8D-41C5-A8ED-62550455DA9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Объект 4"/>
              <p:cNvSpPr txBox="1"/>
              <p:nvPr/>
            </p:nvSpPr>
            <p:spPr>
              <a:xfrm>
                <a:off x="3132000" y="2060640"/>
                <a:ext cx="3961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Прибыль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Затраты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Инвестиции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04" name="Схема 5" descr=""/>
          <p:cNvPicPr/>
          <p:nvPr/>
        </p:nvPicPr>
        <p:blipFill>
          <a:blip r:embed="rId5"/>
          <a:stretch/>
        </p:blipFill>
        <p:spPr>
          <a:xfrm>
            <a:off x="755640" y="1779480"/>
            <a:ext cx="7199280" cy="4572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Объект 9"/>
              <p:cNvSpPr txBox="1"/>
              <p:nvPr/>
            </p:nvSpPr>
            <p:spPr>
              <a:xfrm>
                <a:off x="3203640" y="2924280"/>
                <a:ext cx="3744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ЧД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ЧД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ЧД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Объект 12"/>
              <p:cNvSpPr txBox="1"/>
              <p:nvPr/>
            </p:nvSpPr>
            <p:spPr>
              <a:xfrm>
                <a:off x="3292560" y="3860640"/>
                <a:ext cx="255888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Прибыль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Затраты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Инвестиции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1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TextBox 10"/>
            <p:cNvGrpSpPr/>
            <p:nvPr/>
          </p:nvGrpSpPr>
          <p:grpSpPr>
            <a:xfrm>
              <a:off x="5338440" y="420480"/>
              <a:ext cx="3805560" cy="871920"/>
              <a:chOff x="5338440" y="420480"/>
              <a:chExt cx="3805560" cy="871920"/>
            </a:xfrm>
          </p:grpSpPr>
          <p:pic>
            <p:nvPicPr>
              <p:cNvPr id="314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8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5438520" y="476280"/>
                <a:ext cx="365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Оценка эффективности на действующем предприят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6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318C-D090-42A4-8F2E-0E9E4098433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Схема 3" descr=""/>
          <p:cNvPicPr/>
          <p:nvPr/>
        </p:nvPicPr>
        <p:blipFill>
          <a:blip r:embed="rId5"/>
          <a:stretch/>
        </p:blipFill>
        <p:spPr>
          <a:xfrm>
            <a:off x="1474920" y="1914480"/>
            <a:ext cx="619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Группа 11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20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TextBox 7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23" name="TextBox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оложение дел в отрасл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5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Номер слайда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2C54-6084-46B8-85F3-D55BE7A2E1A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4" descr=""/>
          <p:cNvPicPr/>
          <p:nvPr/>
        </p:nvPicPr>
        <p:blipFill>
          <a:blip r:embed="rId5"/>
          <a:stretch/>
        </p:blipFill>
        <p:spPr>
          <a:xfrm>
            <a:off x="773280" y="1609560"/>
            <a:ext cx="4752720" cy="245916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2"/>
          <p:cNvSpPr/>
          <p:nvPr/>
        </p:nvSpPr>
        <p:spPr>
          <a:xfrm>
            <a:off x="5585400" y="2100240"/>
            <a:ext cx="18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иаперевоз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Диаграмма 4" descr=""/>
          <p:cNvPicPr/>
          <p:nvPr/>
        </p:nvPicPr>
        <p:blipFill>
          <a:blip r:embed="rId6"/>
          <a:stretch/>
        </p:blipFill>
        <p:spPr>
          <a:xfrm>
            <a:off x="560520" y="4197240"/>
            <a:ext cx="76626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3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TextBox 10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34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Сущность проек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6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CED2-3EAF-4FA5-B314-D3B2F582F93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planprint"/>
          <p:cNvPicPr/>
          <p:nvPr/>
        </p:nvPicPr>
        <p:blipFill>
          <a:blip r:embed="rId5"/>
          <a:stretch/>
        </p:blipFill>
        <p:spPr>
          <a:xfrm>
            <a:off x="139680" y="1522440"/>
            <a:ext cx="3279960" cy="373536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0" y="5278320"/>
            <a:ext cx="867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 Слесарно-механический 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– Цех по ремонту и техобслуживанию планеров Boe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– Цех ремонта агрегатов самолетов и двиг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– Цех по ремонту и техобслуживанию планеров Air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– Механический це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– Цех по ремонту и техобслуживанию планеров ТУ-204, ТУ-214, ИЛ-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– Цех ремонта элементов план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ируемый цех – Цех по ремонту и техобслуживанию планеров ТУ-154, ИЛ-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Рисунок 1" descr=""/>
          <p:cNvPicPr/>
          <p:nvPr/>
        </p:nvPicPr>
        <p:blipFill>
          <a:blip r:embed="rId6"/>
          <a:stretch/>
        </p:blipFill>
        <p:spPr>
          <a:xfrm>
            <a:off x="4583160" y="1522440"/>
            <a:ext cx="4421160" cy="305892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3"/>
          <p:cNvSpPr/>
          <p:nvPr/>
        </p:nvSpPr>
        <p:spPr>
          <a:xfrm>
            <a:off x="5395320" y="458136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 подготовк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43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5" name="TextBox 10"/>
            <p:cNvGrpSpPr/>
            <p:nvPr/>
          </p:nvGrpSpPr>
          <p:grpSpPr>
            <a:xfrm>
              <a:off x="5338440" y="316800"/>
              <a:ext cx="3805560" cy="871920"/>
              <a:chOff x="5338440" y="316800"/>
              <a:chExt cx="3805560" cy="871920"/>
            </a:xfrm>
          </p:grpSpPr>
          <p:pic>
            <p:nvPicPr>
              <p:cNvPr id="346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316800"/>
                <a:ext cx="3805560" cy="8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"/>
              <p:cNvSpPr/>
              <p:nvPr/>
            </p:nvSpPr>
            <p:spPr>
              <a:xfrm>
                <a:off x="5438520" y="374400"/>
                <a:ext cx="365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Сценарная матрица стратегических действ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8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972D-40BC-4D21-87AD-4A325B3F24A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Таблица 13" descr=""/>
          <p:cNvPicPr/>
          <p:nvPr/>
        </p:nvPicPr>
        <p:blipFill>
          <a:blip r:embed="rId5"/>
          <a:stretch/>
        </p:blipFill>
        <p:spPr>
          <a:xfrm>
            <a:off x="444600" y="1816200"/>
            <a:ext cx="81262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55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7" name="TextBox 10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58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лан маркетинг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0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6965-7846-4BCF-9B5B-46CE588BA82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54080" y="2492280"/>
          <a:ext cx="4011480" cy="3627360"/>
        </p:xfrm>
        <a:graphic>
          <a:graphicData uri="http://schemas.openxmlformats.org/drawingml/2006/table">
            <a:tbl>
              <a:tblPr/>
              <a:tblGrid>
                <a:gridCol w="392040"/>
                <a:gridCol w="2603520"/>
                <a:gridCol w="1015920"/>
              </a:tblGrid>
              <a:tr h="1065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виакомпания-эксплуат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-во план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oeing 737 Next Gen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Москва» («Moscow Airlines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Оренбургские авиалинии» («Orenair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Якут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 («Yakutia Airlines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ибир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 («S7 Airlines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Трансаэро» (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ransaer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Аэросвит» (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erosvi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Газпромавиа» (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azpromavi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363" name="Rectangle 11"/>
          <p:cNvSpPr/>
          <p:nvPr/>
        </p:nvSpPr>
        <p:spPr>
          <a:xfrm>
            <a:off x="128520" y="17614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евая аудитория ТОи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oeing 737 Next Gen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Схема 6" descr=""/>
          <p:cNvPicPr/>
          <p:nvPr/>
        </p:nvPicPr>
        <p:blipFill>
          <a:blip r:embed="rId5"/>
          <a:stretch/>
        </p:blipFill>
        <p:spPr>
          <a:xfrm>
            <a:off x="4468680" y="1341360"/>
            <a:ext cx="4523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6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8" name="TextBox 11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69" name="TextBox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Финансовый пл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1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6952-F173-4FEA-9B5B-22B2AB3958D0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187560" y="1486080"/>
            <a:ext cx="30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чет процентов по кредит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85760" y="1824120"/>
          <a:ext cx="7710480" cy="1055520"/>
        </p:xfrm>
        <a:graphic>
          <a:graphicData uri="http://schemas.openxmlformats.org/drawingml/2006/table">
            <a:tbl>
              <a:tblPr/>
              <a:tblGrid>
                <a:gridCol w="652320"/>
                <a:gridCol w="1513080"/>
                <a:gridCol w="1008000"/>
                <a:gridCol w="1440000"/>
                <a:gridCol w="1635120"/>
                <a:gridCol w="1461960"/>
              </a:tblGrid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лг на начало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ннуи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% погаш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редит погаше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лг 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83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2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11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 880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 880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83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18 4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321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59 0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59 0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83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80 6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59 0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1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206280" y="3376440"/>
          <a:ext cx="7101000" cy="3365640"/>
        </p:xfrm>
        <a:graphic>
          <a:graphicData uri="http://schemas.openxmlformats.org/drawingml/2006/table">
            <a:tbl>
              <a:tblPr/>
              <a:tblGrid>
                <a:gridCol w="2365560"/>
                <a:gridCol w="966600"/>
                <a:gridCol w="908280"/>
                <a:gridCol w="893520"/>
                <a:gridCol w="982800"/>
                <a:gridCol w="984240"/>
              </a:tblGrid>
              <a:tr h="1836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 grid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35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нвестицион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2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4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перационная деятельность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8 615 7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2 022 4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3 456 8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6 887 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6 887 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ыруч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8 292 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8 765 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7 501 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5 378 3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5 378 3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перационные расх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4 296 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85 982 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0 917 8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4 904 6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4 904 6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лог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5 379 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0 761 0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3 127 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3 586 7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3 586 7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инансовая деятельность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 160 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1 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1 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бственные 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281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емные 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зврат креди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 том числе процен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2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1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80 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енежный поток за период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8 615 7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2 022 4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1 617 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5 047 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5 047 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сконтированный денежный поток за период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1 913 8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8 701 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3 491 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 349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3 512 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сконтный множитель при ставке дисконтирования 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6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5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3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376" name="Прямоугольник 13"/>
          <p:cNvSpPr/>
          <p:nvPr/>
        </p:nvSpPr>
        <p:spPr>
          <a:xfrm>
            <a:off x="179280" y="299736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нежные потоки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22:32:01Z</dcterms:created>
  <dc:creator>User</dc:creator>
  <dc:description/>
  <dc:language>en-US</dc:language>
  <cp:lastModifiedBy>Гончарова Анастасия Вячеславовна</cp:lastModifiedBy>
  <dcterms:modified xsi:type="dcterms:W3CDTF">2011-05-31T11:08:34Z</dcterms:modified>
  <cp:revision>59</cp:revision>
  <dc:subject/>
  <dc:title>Итоговое совещание Совета УМО</dc:title>
</cp:coreProperties>
</file>