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B20-FB56-44E0-8BC4-8CB6ECF3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73E-56DB-4286-BC88-DF7AE594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B92-51E6-4864-A5AD-E5796B52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E6B-BEDE-4FF8-AD7E-64573839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BBF-628F-4E3B-A38F-B9D0311C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40B-1F84-47AA-BF44-326D97DB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223-CF0A-49C0-86CD-330EF540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909-01C2-4CBF-BBE4-0804D3F8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54A-A34B-4626-A776-CD8DFBD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115-2D9A-42BF-8B56-2B65441C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CBC-E4BF-41C1-8AE6-D3627CF0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419-D410-4282-8CBE-0D67DB10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841-0A5D-474E-AF6E-0BC7C5B55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едеральное агентство по образованию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ГОУ СПО «Уфимский механико-технологический коллед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413000"/>
            <a:ext cx="7993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e4f00"/>
                </a:solidFill>
                <a:latin typeface="Arial"/>
              </a:rPr>
              <a:t>КУРСОВ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дисциплине«Товароведение и экспертиза  качества продовольственных товаров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55640" y="52484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ли                      Руководитель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ЫРЬЕ</a:t>
            </a:r>
            <a:r>
              <a:rPr b="1" i="1" lang="ru-RU" sz="44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ука пшени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да пить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рга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атока крахм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сло растите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ахар-пес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рожж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ль поваренная пище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требительская маркир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042920" y="1844640"/>
            <a:ext cx="7344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e4f00"/>
                    </a:gs>
                    <a:gs pos="50000">
                      <a:srgbClr val="ff9933"/>
                    </a:gs>
                    <a:gs pos="100000">
                      <a:srgbClr val="9e4f00"/>
                    </a:gs>
                  </a:gsLst>
                  <a:lin ang="18900000"/>
                </a:gradFill>
                <a:latin typeface="Arial"/>
              </a:rPr>
              <a:t>Маркиров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e4f00"/>
                  </a:gs>
                  <a:gs pos="50000">
                    <a:srgbClr val="ff9933"/>
                  </a:gs>
                  <a:gs pos="100000">
                    <a:srgbClr val="9e4f00"/>
                  </a:gs>
                </a:gsLst>
                <a:lin ang="189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e4f00"/>
                    </a:gs>
                    <a:gs pos="50000">
                      <a:srgbClr val="ff9933"/>
                    </a:gs>
                    <a:gs pos="100000">
                      <a:srgbClr val="9e4f00"/>
                    </a:gs>
                  </a:gsLst>
                  <a:lin ang="18900000"/>
                </a:gradFill>
                <a:latin typeface="Arial"/>
              </a:rPr>
              <a:t>потребительской упаков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e4f00"/>
                  </a:gs>
                  <a:gs pos="50000">
                    <a:srgbClr val="ff9933"/>
                  </a:gs>
                  <a:gs pos="100000">
                    <a:srgbClr val="9e4f00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7182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9280" y="836640"/>
          <a:ext cx="8785440" cy="5160960"/>
        </p:xfrm>
        <a:graphic>
          <a:graphicData uri="http://schemas.openxmlformats.org/drawingml/2006/table">
            <a:tbl>
              <a:tblPr/>
              <a:tblGrid>
                <a:gridCol w="1728720"/>
                <a:gridCol w="3456000"/>
                <a:gridCol w="3600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де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анки «Сдобны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шки «Малютки», в сахарной глазу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стонахождение изготовителя, постав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АО «Дюртюлинский хлебозавод». 452320, Россия, РБ, г.Дюртюли, ул.Горшкова, 8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АО «Дюртюлинский хлебозавод». 452320, Россия, РБ, г.Дюртюли, ул.Горшкова, 8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пшеничная хлебопекарная в/с, вода, сахар-песок, масло растительное, соль поваренная пищевая, дрожжи прессованные, маргарин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пшеничная первый сорт, сахар, масло растительное, маргарин, дрожжи хлебопекарные, соль поваренная пищевая, ванилин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ая ценность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–8,3 г, жиры-8,0 г, углеводы-59,5 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ки-10,0 г, жиры-8,1 г, углеводы-77,8 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ческая ценность в 100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 кк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 кка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нить в хорошо проветриваемых складских помещениях, не зараженных вредителями хлебных запасов, при температуре не более 2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и ОВВ не более 65-75%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нить в хорошо проветриваемых складских помещениях, не зараженных вредителями хлебных запасов, при температуре не более 2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и ОВВ не более 65-75%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год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сут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608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уто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 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Т 7128-9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Т 30354-9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ие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олептическая оценка, ГОСТ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128-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ее состоя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упк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ddf0"/>
            </a:gs>
            <a:gs pos="100000">
              <a:srgbClr val="389e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 определения влажности, ГОСТ 7128-9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7777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ь метода заключается в высушивании навески изделия при определенной температуре и вычислении потери массы по отношению к наве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76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4392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Баранки «Сдобны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образ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5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9,47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5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00*(19,47-18,53)/5=18,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обра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5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99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00*(18,99-18,06)/5=18,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=(18,8+18,6)/2=18,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3280" y="549360"/>
            <a:ext cx="43164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шки «Малю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обра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5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63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2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00*(18,63-18,24)/5=7,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образ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5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8,22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7,8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00*(18,22-17,82)/5=8,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=(8,0+7,8)/2=7,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ff"/>
            </a:gs>
            <a:gs pos="100000">
              <a:srgbClr val="ff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 определения кислотности, ГОСТ 7128-9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7859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основан на нейтрализации кислотных веществ, содержащихся в навеске, щелочью в присутствии фенолфталеина  до появления розовой окра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ff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193320" y="1524600"/>
            <a:ext cx="412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Баранки «Сдобны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образ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4*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7=2,8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образ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4*0,6=2,4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ср=(2,8+2,4)/2=2,6 гра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45080" y="1558080"/>
            <a:ext cx="4146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ушки «Малют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образ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0,6*4=2,4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образ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0,6*4=2,4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ср=(2,4+2,4)/2=2,4 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тод определения набухаемости сушек и баранок, ГОСТ 7128 – 9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7859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снован на установление увеличения массы хлебобулочных бараночных изделий при погружении в воду при температуре 60 на опреде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ухаемость характеризуется отношением массы изделий после намокания к массе сухих изделий и выражаетс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6"/>
          <p:cNvSpPr txBox="1"/>
          <p:nvPr/>
        </p:nvSpPr>
        <p:spPr>
          <a:xfrm>
            <a:off x="1332000" y="2349360"/>
            <a:ext cx="68403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ССЛЕДОВАНИЕ КАЧЕ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БАРАНОЧНЫХ ИЗДЕЛ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ки «Сдобны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1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2,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2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94,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н=294,5/122,7=2,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шки «Малютк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=102,1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=265,5 г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н=265,5/102,1=2,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Протокол №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именование продукта: баранки «Сдобные», высшего с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олептическая оц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ий вид – округлая форма, цвет светло-коричневый, поверхность глянцевидная, гладкая, без вздутий и трещи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ее состояние - Разрыхленные, пропеченные, без признаков непром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кус - Соответствующий данному виду изделий с привкусом ароматических и вкусовых добавок, без постороннего привку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пах - Свойственный данному виду изделий, без постороннего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упкость – лом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ко-химические показ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3933720"/>
          <a:ext cx="7559640" cy="1133640"/>
        </p:xfrm>
        <a:graphic>
          <a:graphicData uri="http://schemas.openxmlformats.org/drawingml/2006/table">
            <a:tbl>
              <a:tblPr/>
              <a:tblGrid>
                <a:gridCol w="502920"/>
                <a:gridCol w="4392720"/>
                <a:gridCol w="1728720"/>
                <a:gridCol w="93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ициент набух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21"/>
          <p:cNvSpPr/>
          <p:nvPr/>
        </p:nvSpPr>
        <p:spPr>
          <a:xfrm>
            <a:off x="468360" y="5524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ие:  баранки «Сдобный», высшего сорта по органолептическим и физико-химическим показателям соответствует ГОСТ 7128-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Протокол №</a:t>
            </a:r>
            <a:r>
              <a:rPr b="0" lang="en-US" sz="4000" spc="-1" strike="noStrike">
                <a:solidFill>
                  <a:srgbClr val="9933ff"/>
                </a:solidFill>
                <a:latin typeface="Arial"/>
              </a:rPr>
              <a:t>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именование продукта: сушки «Малютки» в сахарной глазури, первого с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олептическая оц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ий вид – округлая форма, цвет светло-коричневый, поверхность глянцевидная, гладкая, без вздутий и трещин, покрытая сахарной глазур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ее состояние - Разрыхленные, пропеченные, без признаков непром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кус - Соответствующий данному виду изделий с привкусом ароматических и вкусовых добавок, без постороннего привку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пах - Свойственный данному виду изделий, без постороннего запах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упкость – хрупк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ко-химические показ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3933720"/>
          <a:ext cx="7559640" cy="1133640"/>
        </p:xfrm>
        <a:graphic>
          <a:graphicData uri="http://schemas.openxmlformats.org/drawingml/2006/table">
            <a:tbl>
              <a:tblPr/>
              <a:tblGrid>
                <a:gridCol w="502920"/>
                <a:gridCol w="4464360"/>
                <a:gridCol w="1657080"/>
                <a:gridCol w="935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эффициент набух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1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не более 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6294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21"/>
          <p:cNvSpPr/>
          <p:nvPr/>
        </p:nvSpPr>
        <p:spPr>
          <a:xfrm>
            <a:off x="468360" y="5524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ие:  сушки «Малютки» в сахарной глазури, первого сорта по органолептическим и физико-химическим показателям соответствует ГОСТ 7128-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7"/>
          <p:cNvSpPr txBox="1"/>
          <p:nvPr/>
        </p:nvSpPr>
        <p:spPr>
          <a:xfrm>
            <a:off x="1332000" y="2205000"/>
            <a:ext cx="640692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нка, сушка -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циональное русское блюдо,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лебобулочное издел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 пшеничного тес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виде небольшого кольца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Ассортимент бара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ани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Горчи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ет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Лимо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оло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Обогащенные бел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рост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ростые для крайнего сев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лавян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доб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ахар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Киевские (сахарные с мако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Черкизов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Яич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Ассортимент с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ани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Горчи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 кориц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Лимон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Любитель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алю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олоч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 ма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Но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Простые (ахлоридны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добные дет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добные с сол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добные с тм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оле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Чай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Челноч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Диабетиче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ин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ушки к пи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олептические показател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731880"/>
          <a:ext cx="9144000" cy="5516640"/>
        </p:xfrm>
        <a:graphic>
          <a:graphicData uri="http://schemas.openxmlformats.org/drawingml/2006/table">
            <a:tbl>
              <a:tblPr/>
              <a:tblGrid>
                <a:gridCol w="2940120"/>
                <a:gridCol w="3192480"/>
                <a:gridCol w="3011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ки «Сдобные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со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ки «Малютки»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сор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дная, гладкая, без вздутий и трещ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же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г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янцевидная, гладкая, без вздутий и трещин, покрытая сахарной глазур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о-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хленные, пропеченные, без признаков непром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хленные, пропеченные, без признаков непром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ющий данному виду изделий с привкусом ароматических и вкусовых добавок, без постороннего привк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ветствующий данному виду изделий с привкусом ароматических и вкусовых добавок, без постороннего привк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й данному виду изделий, без постороннего запах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й данному виду изделий, без постороннего запах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уп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уп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ко-химические  показатели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34"/>
          <p:cNvSpPr/>
          <p:nvPr/>
        </p:nvSpPr>
        <p:spPr>
          <a:xfrm>
            <a:off x="3255840" y="34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45160"/>
        </p:xfrm>
        <a:graphic>
          <a:graphicData uri="http://schemas.openxmlformats.org/drawingml/2006/table">
            <a:tbl>
              <a:tblPr/>
              <a:tblGrid>
                <a:gridCol w="3960720"/>
                <a:gridCol w="2486160"/>
                <a:gridCol w="1782720"/>
              </a:tblGrid>
              <a:tr h="468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сорти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добные», высший с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алютка» в сахарной глазури, 1 с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жность, %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ность, %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сахара в пересчете на сухое вещество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ая доля жира в пересчете на сухое вещество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76"/>
            </a:gs>
            <a:gs pos="50000">
              <a:srgbClr val="ffccff"/>
            </a:gs>
            <a:gs pos="100000">
              <a:srgbClr val="76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и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11280" y="765000"/>
          <a:ext cx="8229600" cy="5943600"/>
        </p:xfrm>
        <a:graphic>
          <a:graphicData uri="http://schemas.openxmlformats.org/drawingml/2006/table">
            <a:tbl>
              <a:tblPr/>
              <a:tblGrid>
                <a:gridCol w="3956040"/>
                <a:gridCol w="42735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ый уровень, мг/кг, не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ные элемен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шья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дм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котоксин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латоксин В</a:t>
                      </a:r>
                      <a:r>
                        <a:rPr b="0" lang="ru-RU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 (контроль по сыр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оксинивален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тицид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ХЦГ (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зоме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Т и его метабол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нуклид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– 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Бк/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Бк/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"/>
              </a:rPr>
              <a:t>ФАКТОРЫ, ФОРМИРУЮЩИЕ КА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786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СЫР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ИСПОЛЬЗУЕМ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28:09Z</dcterms:created>
  <dc:creator>Admin</dc:creator>
  <dc:description/>
  <dc:language>en-US</dc:language>
  <cp:lastModifiedBy>Ната</cp:lastModifiedBy>
  <dcterms:modified xsi:type="dcterms:W3CDTF">2010-05-13T08:16:59Z</dcterms:modified>
  <cp:revision>16</cp:revision>
  <dc:subject/>
  <dc:title>Исследование качества пива</dc:title>
</cp:coreProperties>
</file>